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DAE-1E9D-4A05-A54D-47C214A4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80E-8555-47AC-A693-B6B2FEB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65D2A-22C6-4D01-9079-4D72811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C5B75-8D0D-4E17-AEA1-1B9556A0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94156-FCE3-4F65-92BB-BC5A8FD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56D04-A610-46FF-A20B-A824459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9FAAD-B06F-4E77-A7CE-050EE2B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48F5A-EEDB-44CC-AE77-F01C8E1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B68D5-E7EF-4828-88F1-E573835E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ABD3A-890E-4B77-8E72-55DC9C16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14D4-2516-440E-817A-2F0994E9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641AC-04A9-4826-9E83-C6B6BE63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082-59F0-4847-A44E-077B9C0C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D6FB5-8077-4C7D-AD5A-68F7FFE4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E68F0-88FB-43E7-BA8D-D3D851A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3AEF3-3CD0-467A-8EFA-B20C0D76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64514-EDB3-4774-B4FF-483ADAB0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21FC1-BB4A-4F26-A20D-C98F049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8D617-8FFB-4C6A-BBCF-F253A858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3C72E-3529-47EF-8B7C-7EF4E45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6618F-AC5F-4E94-91C3-E2CA6F1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B5657-C868-442C-A94D-A33656B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3BB76-5C24-4245-AAE5-B0823534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88B-6833-4862-846A-286BCAEA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D0FC4-FEBF-4869-9D40-00988125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4249-F315-4F2F-AD01-AB44B2FF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9D274-7181-4C70-91D1-85AF0983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D7592-6498-4254-ADD8-26D4A870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0A416-9AA2-4865-9820-08553D6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960B7-E072-4FB5-B220-B956235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C39D7-E7AF-4256-B7BA-5B3E076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9A592-3AEB-4223-84A8-2FFD11E7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9CC6D-01E2-4600-A75C-3F0C749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5F18-920D-4322-BA4B-A7E18D2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0225-D514-42DE-B49D-85C8EF8D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3AD6B-AFFD-48C1-81CD-EDD61CA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C63F-3A1E-497D-B877-0BC83ECC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752BE-DDDF-49EA-AF09-24117D0D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A1947-EA68-4990-9038-1362F2F3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50C5D-BDC1-47AF-A1D8-B851F3C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1C954-E89C-422D-9211-6D9E9BBA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6E65A-AAD3-42FA-9D2C-D98AE5F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C80DD-3050-44EC-9D64-D77C5FEA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C2C02-55C0-4613-BFBB-75AA3387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E5606-7D3B-4CE1-A620-7EDF5D1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F92F-C238-4079-93F5-EC5D547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003CD-A1F9-433B-BA50-CC1565A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69FC7-BDA8-4729-BF19-2F27F669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F25DA-126B-4B4C-B24A-FAB1620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29458-BCB8-4D0D-82A8-464B7BBA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DAC9E-2745-43EC-B1D0-1352038F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7C613-0614-41A2-9249-6D778CB7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59A7D-387F-4955-8D7F-23D14058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70896-4825-4CBE-B821-D4725445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06C7D-27E8-4D93-9C63-E3A690D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B16B8-5F96-43E1-911E-1BCB6991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CC98-CC8E-438F-8CBD-C9B59A88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A5B32-1D2E-4FA6-92A3-ED1EF18D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30EF9-BB86-4688-B345-09DE43E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CEA09-1D2C-4AF1-B82B-7C5EB1E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BEDC7-87B2-48F0-A833-43C978CA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105E4-AE20-4F7E-B890-4A35D594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7F331-1510-498A-A4A3-58D44DF3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4B4EC-7E77-4AC8-9C28-AB73310E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05E6E-B337-46D8-82BE-D4848B24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31BC0-6A45-4A5B-A52D-8877888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B2579-C8CB-4F26-A77A-E2EDB8B9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8451-FAC8-4AA8-8FB6-D1FFF7A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E8C90-7904-42B7-A8E9-C8C70DC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5694C-BFEA-48CE-97D1-577ACF9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845BE-0301-4577-B147-8879A04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E6235-D354-44B8-B1EF-A35BC13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ABBC2-04D6-4729-A1AF-19F280A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ABFB8-9497-4CB8-8114-6D5B8D6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7040C-0EAC-4037-993E-B22B1903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CD1C5-6D4F-4F9A-957A-411A7BB1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FCBCB-5C5C-4C5A-8B18-8D92EEB1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739C1-109D-4BD6-A458-CAF52F16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4ADB-1AB1-4F0A-A6E3-E9C7A9C0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AE88E-9919-4A99-9F35-DD31FFA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FE493-0922-4703-9516-3176348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020FE-B4EF-4E70-B0D0-8FC89DA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E7731-89C8-4611-BCAF-82BC033C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84B60-5262-4F36-8E99-54C6960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71A4D-E237-4527-BAF4-6BFCED0F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FA03C-85DA-4136-8E6E-3C8DFC3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9DAE8-E274-4894-96CF-A590AE3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C8063-1948-4DDF-8D0F-D94C986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72880-E661-44CE-BC24-F85C71E1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B77-9EB2-4119-B7CC-AA4ACEC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45F64-79E9-4826-99AB-6F33F7FD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37348-6103-4327-99C7-2415A074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E3AC0-F609-43B7-B2BA-C78581D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2C259-48A7-48B6-BB11-F9D64DF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A34E5-C8C3-4463-A81A-C27FFF5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0925F-8850-4C0C-B339-7418929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98810-2338-4FB8-8157-BA5E55B6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6AA6D-D9FE-43F2-BEA4-15F0B09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09D45-5E48-4846-9D9C-EB936971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8C675-130A-4CF4-B14D-DEE924B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FC05-EFA3-46A1-A01A-A4A2497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7292B-E5CF-4F42-9CFD-8E9B984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436E1-D31D-48B3-9254-CAC1C07E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785D5-453A-4964-8DB8-8E811D20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F5816-EC53-4236-862B-F1C86F8C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C8552-0D70-4C49-9FC0-1952E7A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68209-98EA-4A9A-926C-31BAA9B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DC591-1A46-45F8-B5BA-FD4F49D2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E89C8-2242-405D-B6CC-48305CA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0031F-A6E0-4A98-931E-FE2A6297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E1853-7D43-4D11-9F8F-86F82B24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F74-9C96-4B60-AD7A-F17DF99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FB34-9624-4E06-BCA1-4991E89E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819C4-2BE1-43CF-8274-0DCC90F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018E7-CFAA-4EDA-93CB-E6001E2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08C2EB-D3AF-4725-8F84-3BC537CB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559CD-B293-4FCF-A1C6-F44544CA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7A994-0335-4C62-B974-0812E8A0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4CC9C-A437-42E5-B485-290FB8DA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65143-B8AA-4405-B597-9E3EA9F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BC859-0FA3-4E8E-8D7E-E1B5141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81E14-9998-4922-A565-5AC4B48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D5C2A-5B54-4DBD-BA6B-7CCC2451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29E2-E0E0-4E7B-B261-B63ABC3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589EB-82B3-4D4F-9349-CA2141D0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D5452-CC83-4F6E-ABB8-CB214CF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91974-6CA8-4CEA-824F-6C871DF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7C1F4-7F65-44CB-A645-324D8B6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61AC4-94CB-4DED-BE36-7BC5761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EE120-1B3F-4DF5-9E1C-688305EF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7A697-C77A-4FB4-8323-DB486567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FAF6D-E2A6-434C-AB93-B39E8188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E8B9C-204F-4C72-987E-E642648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1B30E-4410-4A13-A84A-44217E60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8E05-BA13-41F2-96B4-2D5B801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F9653-763D-40A9-ACB2-BE4CDE8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E7646-4318-4CB0-96BD-11316DB5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8D6ED-C3AA-4804-84D7-5DB0A837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72A9E-904C-4AEE-A21A-D194743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14F1F-06FF-41A9-B892-B795E8D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4C5F6-ED85-4459-AA92-E40291D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5F5C1-CC9D-447B-974C-DBAF166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D9EF6-1170-48E0-9722-E8A916C9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82794-3D5D-4789-92AA-C0CEE32D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94E87-719F-4E1F-844F-8519DD40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7D66-9C33-4F3C-9883-C4ED98E0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EB14B8-1AA1-44B6-84EA-18033315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206CA-7502-45F0-BF9B-E5DC352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237A2-F34A-4754-BDDB-F9DA8497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CB588-D1B2-43C9-B729-0ED9A987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A77D4-F363-4931-A812-A104E1E7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689B9-8F8A-4C4A-8A7E-5A55E30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A174B1-1D62-4E99-BE6C-1D84935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4322B-726D-4923-9662-F17FE48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42255-046C-4003-860A-68E0F568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CDF77-3F5A-42D4-AD6B-1DF143E4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489E-A8F1-4474-ACB8-A3141D89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2B059-CC21-4EB2-BE8A-88AC5F0D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E8161-B07B-475C-BB3A-5053A807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05E90-B5C8-42C3-9C03-01B94CAE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159E7-EFCB-4DA7-95B8-C98485C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C28FF-4DC7-4D07-93A1-85159BC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578EE-90B1-47EA-9614-DC9761A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D555F-9912-4112-B497-15EE4E4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DF180-EB59-4BAF-8F31-B041E1D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731E3-7D9B-4B45-A97A-72F3C01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897D5-1351-4297-8882-B9ABEE6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CE52-E45C-4741-A50B-6CE1C650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5F759-3FE3-42E8-8872-E4493F1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AB75D-2897-4527-9956-969545CF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98F98-E984-482C-9202-259430E0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5152-86C4-47E8-8F03-EF944B0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D182-5551-403D-B003-CB02971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9AFB-4AA6-452D-BB60-A873B51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2A1D-84E3-4192-ABCF-0E65985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8A7-23D1-42DA-AD22-C22D6A0B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AC68-E9D6-49A2-AFB4-40DA16C1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7A94-ED01-4EEF-9651-2DC0B88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9AC2-4DEB-459F-9C84-5ACD494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1B6E-F751-42B0-854D-9FF493E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55D4-9589-497C-947A-7219303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655B-0CC4-4028-994B-63092CC8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2802-9E58-4769-A044-96E111AC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A48A-AD8F-4A0E-A239-20274FC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B247-B731-42EE-9487-8BAE713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CA11-2F1D-4784-8196-F2D2808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726-7CC9-4C99-9901-D6A6C865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8BAC-C5F8-4DF6-A16A-835125A3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9F68-9C81-4746-93FE-0F0FAB56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D69D-B820-4823-BC2B-0C8AE26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30FE-3427-467F-9815-E7F0E0B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8C88-C5A5-4192-A3A5-8141263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979B-EF89-4608-8649-C0D28FE9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5E52-81DF-4053-A1D0-39B95D63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F22C-F04D-4364-B511-37BA85FE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5BC9-8E26-4674-BB3E-E09E8ED3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E328-18FC-4215-9656-472E440F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819-0BEE-4E06-B4BE-9C155FC4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B0BF-761A-4F03-9A71-72971179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A13D-7EDE-4726-B076-94B312C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6A4C-6AED-42E9-84B2-BA8766F0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D363-7363-4ED0-A3A7-1C7A2DB6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94F7-D474-4942-A84B-BB068BF8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ACC6-110E-4542-9AF6-C01645C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9160-2650-4588-8682-387DD98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DBFD-958D-4C52-AA5B-EB61C86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7082-F2E0-4F3E-8490-24ED669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B8B3-FCF5-4CC0-B412-8E101036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8D-E27D-4C87-9076-6A071749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475D-756B-459D-AD12-8BA63659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92FD-6484-4CAE-B520-6854ED96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C1FF-966E-4EBE-9919-676CBDB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5A2E-F681-4E10-8F8C-CA0A83D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F3B0-9AEE-44C9-9EDD-3DA40B6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7571-EA66-43A8-9A91-27D6DF3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2AB2-FAFF-4E7F-B32A-6CC12E8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C52D-C8E3-496C-B04F-36EE7B2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DC90-671E-4E5A-B289-8356B4D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8DDD-634D-432F-832B-C6E2C05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03E-FDA1-40FA-82BD-5EA45104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C3E5-9FAC-456C-AE46-6A90D265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DA94-2BA5-41AC-BBE8-8FEB417E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F669-5115-4344-9424-F10C5C63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3682D-0474-4AC8-9FFB-725B4643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40DE2-846B-4861-BFC4-F636633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2E2B-B247-48E8-93CF-54E1E2E2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86AC-35F6-4299-A7E8-D7AA6D4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76A0-436B-4C1D-B1D8-F4D583A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9BF3-B7DB-4853-ABBF-13B54B3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F81E-3D4E-4507-8010-7B932C17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545-9160-4094-827D-498B220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75B3-DA6C-437E-AEA8-02513F91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DC49-1DF6-45D5-AB9C-ED8AAA1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CD1F-7C8C-46EF-A668-D5E9CFE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B6D5-467A-48EF-9E3B-577F0DE3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A6DA-5936-4731-BC45-43702FD9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BECAF-7D19-4778-BB68-50C5A3E5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CAFA-56AE-4234-9C84-D5B7F88B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4E4A-8BDF-410E-9131-D4F9D2F5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CD346-8660-458C-B281-930D6788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1A5E-45F6-4FBC-9370-EC6B17D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9E1-2BED-4649-9809-CFD6CF9B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DAA9-A3F9-43B2-91E3-1CBEC5F2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2044-2AEB-4BB7-BD6C-1CA56714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4977B-27A1-4F43-BCFA-F6B4B4D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79D8-E177-4F90-8F5A-236E0B77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0D5D3-646D-4796-B5D4-D118F263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DF3F-88CF-4860-9D2B-D3979569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AFA57-006E-4738-A478-6DBBDDBB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3AC93-FF32-4345-BE6F-8C52DD99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5A5E-934A-408F-9B67-171A2B4E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EB76A-246B-440C-B675-F6BEEEB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3D76-B7E5-49D8-9964-A5CF61061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707-153B-4E92-B7EE-F105984247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7356-DD0B-4E3D-8D88-A17016620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8CB4-20CE-4DA5-BE17-D379780B89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352A-B13A-42D0-A0AA-FE5B88032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AA4D-3910-4FA4-9B4D-118413F4D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F3C1-D9DC-4BF6-ADD7-2A09A6CDE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9284-C295-4CAE-9E22-3B0699FC9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2C03-50F7-43FC-8619-D9C24C055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1B3-E39B-48D1-BE1F-143E84E74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979-2803-4672-B063-0E367F8D1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A61-2D59-45F2-B733-47362570C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E2B5-680B-4E11-8B34-8C1FB4B6BC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611-4C54-4556-9915-62E5A6CF7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6A3-705C-4497-9C90-30B020E876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C6C9-1F94-4106-982A-0387736B6C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7029-A233-4066-A711-3E435139E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79CD-02C0-43C5-948C-D34DFEB905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CED-7AF7-4AA0-B21F-F563EC96D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24A7-21BB-478A-9879-7606C34A8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7CD8-D89F-44A7-B246-1ADF5EFBB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BE6-70E2-4B2C-A940-2839CE2CE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E57-3F78-4087-BCD2-6F22F4B442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05CE-9B15-447F-A83F-1C37856953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EF23-7873-402C-812B-5AC43B179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D49-2FAE-41D4-8CE1-1B1E4FDD0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B7CC-8E17-432A-BD36-50D967267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99C-7960-4FB3-8306-FE61BFA1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4C9F-5524-42C9-B815-2429408350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FF9-964E-4431-9C51-E9EAC1675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BF55-84DF-4D68-B1C1-CA03D42339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287D-0E6C-4696-A7C0-7FF4A1094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1F4F-41CB-4689-9201-2CE5A4822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85AD-792E-4009-BFB1-F9558AD21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130-042E-4059-A7D9-245D2D5A1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93F9-43C5-47EB-A56B-D8CF7B146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10E-246D-4502-9650-105F05B1D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F995-C4AD-4B88-BBFC-17FABDA5A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9B9-B915-45CC-A700-CA49D1CA5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D936-E2BE-4A20-A0A0-7BC1420F5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32288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95400" y="849240"/>
            <a:ext cx="8953200" cy="5819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6516720" y="735120"/>
            <a:ext cx="1285920" cy="533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2627280" y="1989000"/>
            <a:ext cx="6000840" cy="1876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4"/>
          <a:stretch/>
        </p:blipFill>
        <p:spPr>
          <a:xfrm>
            <a:off x="530280" y="4869000"/>
            <a:ext cx="1314360" cy="6858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"/>
          <p:cNvPicPr/>
          <p:nvPr/>
        </p:nvPicPr>
        <p:blipFill>
          <a:blip r:embed="rId5"/>
          <a:stretch/>
        </p:blipFill>
        <p:spPr>
          <a:xfrm>
            <a:off x="2268360" y="4869000"/>
            <a:ext cx="1314720" cy="6858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" descr=""/>
          <p:cNvPicPr/>
          <p:nvPr/>
        </p:nvPicPr>
        <p:blipFill>
          <a:blip r:embed="rId6"/>
          <a:stretch/>
        </p:blipFill>
        <p:spPr>
          <a:xfrm>
            <a:off x="3976560" y="4878360"/>
            <a:ext cx="1314720" cy="6858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5" descr=""/>
          <p:cNvPicPr/>
          <p:nvPr/>
        </p:nvPicPr>
        <p:blipFill>
          <a:blip r:embed="rId7"/>
          <a:stretch/>
        </p:blipFill>
        <p:spPr>
          <a:xfrm>
            <a:off x="573120" y="5907240"/>
            <a:ext cx="1314360" cy="6858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"/>
          <p:cNvPicPr/>
          <p:nvPr/>
        </p:nvPicPr>
        <p:blipFill>
          <a:blip r:embed="rId8"/>
          <a:stretch/>
        </p:blipFill>
        <p:spPr>
          <a:xfrm>
            <a:off x="2257560" y="5907240"/>
            <a:ext cx="1314360" cy="6858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5" descr=""/>
          <p:cNvPicPr/>
          <p:nvPr/>
        </p:nvPicPr>
        <p:blipFill>
          <a:blip r:embed="rId9"/>
          <a:stretch/>
        </p:blipFill>
        <p:spPr>
          <a:xfrm>
            <a:off x="3965400" y="5916600"/>
            <a:ext cx="1314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3" descr=""/>
          <p:cNvPicPr/>
          <p:nvPr/>
        </p:nvPicPr>
        <p:blipFill>
          <a:blip r:embed="rId1"/>
          <a:stretch/>
        </p:blipFill>
        <p:spPr>
          <a:xfrm>
            <a:off x="109440" y="1060560"/>
            <a:ext cx="8925120" cy="5248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1969920" y="226692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9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504720" cy="285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9" descr=""/>
          <p:cNvPicPr/>
          <p:nvPr/>
        </p:nvPicPr>
        <p:blipFill>
          <a:blip r:embed="rId4"/>
          <a:stretch/>
        </p:blipFill>
        <p:spPr>
          <a:xfrm>
            <a:off x="7812000" y="2266920"/>
            <a:ext cx="505080" cy="285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9" descr=""/>
          <p:cNvPicPr/>
          <p:nvPr/>
        </p:nvPicPr>
        <p:blipFill>
          <a:blip r:embed="rId5"/>
          <a:stretch/>
        </p:blipFill>
        <p:spPr>
          <a:xfrm>
            <a:off x="3389400" y="263844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"/>
          <p:cNvPicPr/>
          <p:nvPr/>
        </p:nvPicPr>
        <p:blipFill>
          <a:blip r:embed="rId6"/>
          <a:stretch/>
        </p:blipFill>
        <p:spPr>
          <a:xfrm>
            <a:off x="3348000" y="420372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9" descr=""/>
          <p:cNvPicPr/>
          <p:nvPr/>
        </p:nvPicPr>
        <p:blipFill>
          <a:blip r:embed="rId7"/>
          <a:stretch/>
        </p:blipFill>
        <p:spPr>
          <a:xfrm>
            <a:off x="684360" y="4573440"/>
            <a:ext cx="502920" cy="285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9" descr=""/>
          <p:cNvPicPr/>
          <p:nvPr/>
        </p:nvPicPr>
        <p:blipFill>
          <a:blip r:embed="rId8"/>
          <a:stretch/>
        </p:blipFill>
        <p:spPr>
          <a:xfrm>
            <a:off x="5364000" y="5591160"/>
            <a:ext cx="503280" cy="285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9" descr=""/>
          <p:cNvPicPr/>
          <p:nvPr/>
        </p:nvPicPr>
        <p:blipFill>
          <a:blip r:embed="rId9"/>
          <a:stretch/>
        </p:blipFill>
        <p:spPr>
          <a:xfrm>
            <a:off x="3132000" y="6004080"/>
            <a:ext cx="5032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"/>
          <p:cNvPicPr/>
          <p:nvPr/>
        </p:nvPicPr>
        <p:blipFill>
          <a:blip r:embed="rId1"/>
          <a:stretch/>
        </p:blipFill>
        <p:spPr>
          <a:xfrm>
            <a:off x="189000" y="1398600"/>
            <a:ext cx="8124840" cy="1228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"/>
          <p:cNvPicPr/>
          <p:nvPr/>
        </p:nvPicPr>
        <p:blipFill>
          <a:blip r:embed="rId2"/>
          <a:stretch/>
        </p:blipFill>
        <p:spPr>
          <a:xfrm>
            <a:off x="260280" y="2784600"/>
            <a:ext cx="8267760" cy="3381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"/>
          <p:cNvPicPr/>
          <p:nvPr/>
        </p:nvPicPr>
        <p:blipFill>
          <a:blip r:embed="rId3"/>
          <a:stretch/>
        </p:blipFill>
        <p:spPr>
          <a:xfrm>
            <a:off x="3348000" y="1897200"/>
            <a:ext cx="1511280" cy="285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9" descr=""/>
          <p:cNvPicPr/>
          <p:nvPr/>
        </p:nvPicPr>
        <p:blipFill>
          <a:blip r:embed="rId4"/>
          <a:stretch/>
        </p:blipFill>
        <p:spPr>
          <a:xfrm>
            <a:off x="5435640" y="1898640"/>
            <a:ext cx="1512720" cy="285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9" descr=""/>
          <p:cNvPicPr/>
          <p:nvPr/>
        </p:nvPicPr>
        <p:blipFill>
          <a:blip r:embed="rId5"/>
          <a:stretch/>
        </p:blipFill>
        <p:spPr>
          <a:xfrm>
            <a:off x="3224160" y="2276640"/>
            <a:ext cx="863640" cy="285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9" descr=""/>
          <p:cNvPicPr/>
          <p:nvPr/>
        </p:nvPicPr>
        <p:blipFill>
          <a:blip r:embed="rId6"/>
          <a:stretch/>
        </p:blipFill>
        <p:spPr>
          <a:xfrm>
            <a:off x="5940360" y="2287440"/>
            <a:ext cx="1440000" cy="285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7"/>
          <a:stretch/>
        </p:blipFill>
        <p:spPr>
          <a:xfrm>
            <a:off x="1557360" y="3860640"/>
            <a:ext cx="69721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10520" cy="3276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"/>
          <p:cNvPicPr/>
          <p:nvPr/>
        </p:nvPicPr>
        <p:blipFill>
          <a:blip r:embed="rId2"/>
          <a:stretch/>
        </p:blipFill>
        <p:spPr>
          <a:xfrm>
            <a:off x="3348000" y="2359080"/>
            <a:ext cx="216000" cy="285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9" descr=""/>
          <p:cNvPicPr/>
          <p:nvPr/>
        </p:nvPicPr>
        <p:blipFill>
          <a:blip r:embed="rId3"/>
          <a:stretch/>
        </p:blipFill>
        <p:spPr>
          <a:xfrm>
            <a:off x="4654440" y="2359080"/>
            <a:ext cx="216000" cy="285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9" descr=""/>
          <p:cNvPicPr/>
          <p:nvPr/>
        </p:nvPicPr>
        <p:blipFill>
          <a:blip r:embed="rId4"/>
          <a:stretch/>
        </p:blipFill>
        <p:spPr>
          <a:xfrm>
            <a:off x="7462800" y="2359080"/>
            <a:ext cx="216000" cy="285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9" descr=""/>
          <p:cNvPicPr/>
          <p:nvPr/>
        </p:nvPicPr>
        <p:blipFill>
          <a:blip r:embed="rId5"/>
          <a:stretch/>
        </p:blipFill>
        <p:spPr>
          <a:xfrm>
            <a:off x="3625920" y="3503520"/>
            <a:ext cx="360360" cy="285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9" descr=""/>
          <p:cNvPicPr/>
          <p:nvPr/>
        </p:nvPicPr>
        <p:blipFill>
          <a:blip r:embed="rId6"/>
          <a:stretch/>
        </p:blipFill>
        <p:spPr>
          <a:xfrm>
            <a:off x="3419640" y="3852720"/>
            <a:ext cx="360360" cy="285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9" descr=""/>
          <p:cNvPicPr/>
          <p:nvPr/>
        </p:nvPicPr>
        <p:blipFill>
          <a:blip r:embed="rId7"/>
          <a:stretch/>
        </p:blipFill>
        <p:spPr>
          <a:xfrm>
            <a:off x="2627280" y="4508640"/>
            <a:ext cx="360360" cy="285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9" descr=""/>
          <p:cNvPicPr/>
          <p:nvPr/>
        </p:nvPicPr>
        <p:blipFill>
          <a:blip r:embed="rId8"/>
          <a:stretch/>
        </p:blipFill>
        <p:spPr>
          <a:xfrm>
            <a:off x="4768920" y="4489560"/>
            <a:ext cx="35856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114480" y="981000"/>
            <a:ext cx="8915400" cy="5438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9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934920" cy="285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9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934920" cy="285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9" descr=""/>
          <p:cNvPicPr/>
          <p:nvPr/>
        </p:nvPicPr>
        <p:blipFill>
          <a:blip r:embed="rId4"/>
          <a:stretch/>
        </p:blipFill>
        <p:spPr>
          <a:xfrm>
            <a:off x="5600880" y="3265560"/>
            <a:ext cx="934920" cy="285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9" descr=""/>
          <p:cNvPicPr/>
          <p:nvPr/>
        </p:nvPicPr>
        <p:blipFill>
          <a:blip r:embed="rId5"/>
          <a:stretch/>
        </p:blipFill>
        <p:spPr>
          <a:xfrm>
            <a:off x="7442280" y="3274920"/>
            <a:ext cx="936720" cy="285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8200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7T07:04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